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41B-8DD7-46E5-8AEE-A96D6468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A94-022E-4D74-B07B-AD742D51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DD8-2C3E-4A3C-888D-EABFF407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4962-B0AE-45A0-843B-3B392F48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489-C214-4A4E-8B58-4CD10D11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34C-0F80-4817-B7D2-9E6065A8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A4C-F2F5-4256-A507-CBF5EC24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C0C-5330-42A4-A1CC-BFFDED3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953-BBCB-4A3B-A6F7-C4082520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473-625B-4906-B382-3C0F9863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229-723E-4160-817F-5668992F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F1D-4D6F-45F7-A755-8D327F0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7D08-193B-48C0-B85B-1D2B30D43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iar.org/img/CharliePerkins2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ript MT Bold"/>
              </a:rPr>
              <a:t>..Charles Perkin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2876760" cy="3790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720" y="609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By Olena Murphy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harles Perkins"/>
          <p:cNvPicPr/>
          <p:nvPr/>
        </p:nvPicPr>
        <p:blipFill>
          <a:blip r:embed="rId1"/>
          <a:stretch/>
        </p:blipFill>
        <p:spPr>
          <a:xfrm>
            <a:off x="539640" y="260280"/>
            <a:ext cx="3672000" cy="266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59280" y="134136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3357720"/>
            <a:ext cx="720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boriginal head of a Federal Government  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67280" y="126828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645000"/>
            <a:ext cx="7632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Perkins was a soccer play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layed for Port Adelaide For nearly 1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harles Perkins photo"/>
          <p:cNvPicPr/>
          <p:nvPr/>
        </p:nvPicPr>
        <p:blipFill>
          <a:blip r:embed="rId1"/>
          <a:stretch/>
        </p:blipFill>
        <p:spPr>
          <a:xfrm>
            <a:off x="395280" y="476280"/>
            <a:ext cx="31687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00720" y="1197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981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42350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les Perkins led a bus tour of outback settl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exposed the shocking treatment of the indigenous pop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harles Perkins"/>
          <p:cNvPicPr/>
          <p:nvPr/>
        </p:nvPicPr>
        <p:blipFill>
          <a:blip r:embed="rId1"/>
          <a:stretch/>
        </p:blipFill>
        <p:spPr>
          <a:xfrm>
            <a:off x="2268360" y="404640"/>
            <a:ext cx="36720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11280" y="3645000"/>
            <a:ext cx="49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 in 1981 he was made hea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partment of Aboriginal Affai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9000"/>
            <a:ext cx="25066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00000" y="3789360"/>
            <a:ext cx="734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kins is a member of the Olympic Indigenous Advisory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467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3:38:27Z</dcterms:created>
  <dc:creator>Reservoir District Secondary College</dc:creator>
  <dc:description/>
  <dc:language>en-US</dc:language>
  <cp:lastModifiedBy>Reservoir District Secondary College</cp:lastModifiedBy>
  <dcterms:modified xsi:type="dcterms:W3CDTF">2008-09-01T00:42:00Z</dcterms:modified>
  <cp:revision>8</cp:revision>
  <dc:subject/>
  <dc:title>..Charles Perkins..</dc:title>
</cp:coreProperties>
</file>